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E653-7DF8-491C-A1FA-206B88FA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96D6-0356-4237-AAC0-ABFE193F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7E87-14C5-4DC1-8B28-300DEE52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2CE5-1EB5-4AB6-8F07-17D23B23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97BD-E5D3-4AEB-9034-9865BE69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C102-023D-433B-A4B3-1BB61E74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81F4-24F5-4F7C-98CE-2B7E99B5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279C-C55B-4051-B407-8A9AF72F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793E-C0B4-4A2B-96F8-07300899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B71A-6106-4BF9-8B0C-4B7708F0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06D4-9A86-4455-9331-593C5745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68D0-4883-40F4-9F0F-78E69521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8A12-6C23-4B93-AE58-7E486649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5AEF-ACD3-44E8-AB0A-DF453DCF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D484-B345-4AD4-ABBD-ECB1BD89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153C-4690-41DE-A981-5AC114DA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34EB-F837-42C6-995C-482F814B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778F8-EEB0-4C28-B56E-94639DF1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D64E3-78A2-4ECC-86A4-DFEC52AA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BDFC3-9059-48D6-B4D8-518166D9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E6991-A18F-4B16-933B-FDF09F74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2B935-178F-4E65-BA1C-57A35C12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F86-A9A9-4ECE-8AF2-58B56C43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3BA1A-522B-4B06-A2BC-BFEBBDBD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040E7-BF05-4166-AEB6-4B63E52F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4DDE2-7D00-44A7-A34E-545EAEB6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90EB7-AD2B-40BC-B3A9-75621A10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D4100-44DB-4DB4-88C1-B33ED844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056C3-3C7B-4E3E-97B5-DD936BDA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0C4C5-1307-4D57-8C2B-B3CF3486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CCE3C-7EEB-4A74-A145-FC9E66B2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FC491-B986-445E-AC98-ED3123FD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FA643-BEE5-4192-84C0-CAE42DD9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08F3-846C-4011-94AE-2E49742D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FD00F-EF3A-43BA-AD0B-B2DB9D7B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E026F-473B-40B9-A850-DC479AF8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B7B43-3BB9-4C62-BEAA-9DF6C6DF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1CDF6-E29F-4FDC-A0D4-0BF36972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4FFD3-C420-480E-9205-3A7EC503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0C42B-EA40-4D27-A8B0-CDC09FC4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A5BF6-B986-44FC-BB12-735ABB61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B505C-0981-461F-A4D1-15BEAB7A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FC5A3-ED36-42D2-B524-62503CB8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43C6-A7EF-49C1-BD5D-F81F6F74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FBC1-AFBF-4F81-A143-06AFF602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EA7-6B45-4162-BFC6-418490BA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55EA-B89B-45B1-BA30-DF9DB067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1A2D-BDAE-4FFF-8271-C4426CA4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9cb38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9cb3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9cb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3a53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7c2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2e08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9cb3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9cb3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9cb38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9cb3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A1BC-C694-48BF-9A66-2D01CC60C520}" type="slidenum">
              <a:rPr b="0" lang="ru-RU" sz="900" spc="-1" strike="noStrike">
                <a:solidFill>
                  <a:srgbClr val="99cb38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9cb3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9cb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3a53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7c2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2e08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9cb3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9cb3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9cb38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9cb38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9cb3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E975-990F-49AB-87F1-DC186F5BFFDF}" type="slidenum">
              <a:rPr b="0" lang="ru-RU" sz="900" spc="-1" strike="noStrike">
                <a:solidFill>
                  <a:srgbClr val="99cb38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9cb38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9cb3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9cb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3a53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7c2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2e08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9cb3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9cb3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2e088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2e088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9cb38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9cb3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8803-6974-443C-8BB5-F8D07135A188}" type="slidenum">
              <a:rPr b="0" lang="ru-RU" sz="900" spc="-1" strike="noStrike">
                <a:solidFill>
                  <a:srgbClr val="99cb38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9cb38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9cb3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9cb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3a53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7c2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2e08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9cb3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9cb3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2e088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2e088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9cb38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9cb3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19C8-F6A8-40D0-A2C4-5B4F15CC531A}" type="slidenum">
              <a:rPr b="0" lang="ru-RU" sz="900" spc="-1" strike="noStrike">
                <a:solidFill>
                  <a:srgbClr val="99cb38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9;&#1089;&#1077;" TargetMode="External"/><Relationship Id="rId2" Type="http://schemas.openxmlformats.org/officeDocument/2006/relationships/hyperlink" Target="http://sneg266.do.am/Metodika/metodicheskaja_razrabotka.pdf" TargetMode="External"/><Relationship Id="rId3" Type="http://schemas.openxmlformats.org/officeDocument/2006/relationships/hyperlink" Target="http://sneg266.do.am/Metodika/metodicheskaja_razrabotka.pdf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704376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a7c29"/>
                </a:solidFill>
                <a:latin typeface="Trebuchet MS"/>
              </a:rPr>
              <a:t>Требования,</a:t>
            </a:r>
            <a:br>
              <a:rPr sz="3600"/>
            </a:br>
            <a:r>
              <a:rPr b="1" lang="ru-RU" sz="3600" spc="-1" strike="noStrike">
                <a:solidFill>
                  <a:srgbClr val="4a7c29"/>
                </a:solidFill>
                <a:latin typeface="Trebuchet MS"/>
              </a:rPr>
              <a:t>предъявляемые к содержанию и оформлению методических разработок</a:t>
            </a: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09480" y="3645000"/>
            <a:ext cx="6483600" cy="23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арший методист ОГКОУ ДОД КОЦДЮТ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иленок Н.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561816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9cb38"/>
                </a:solidFill>
                <a:latin typeface="Trebuchet MS"/>
              </a:rPr>
              <a:t>Основная часть </a:t>
            </a:r>
            <a:br>
              <a:rPr sz="3200"/>
            </a:br>
            <a:r>
              <a:rPr b="0" lang="ru-RU" sz="3200" spc="-1" strike="noStrike">
                <a:solidFill>
                  <a:srgbClr val="99cb38"/>
                </a:solidFill>
                <a:latin typeface="Trebuchet MS"/>
              </a:rPr>
              <a:t>методической разработки </a:t>
            </a:r>
            <a:br>
              <a:rPr sz="3400"/>
            </a:br>
            <a:endParaRPr b="0" lang="en-US" sz="32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0920" y="1468440"/>
            <a:ext cx="734544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 основной части методической разработки отражаются содержание и знания и умения, которые необходимы пользователю для выполнения данной работы. В содержании основной части необходимо точно отразить понятийный аппарат и полностью раскрыть тему.  По форме изложения она может содержать все положения пояснительной записки с существенной детализацией позиций, связанных с конкретизацией разделов, тем и вопросов содержания разработки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еобходимо из опыта вынести основную мысль – идею, знание построения учебно-воспитательной практики, на которой рассматривается опыт. Целесообразно раскрыть систему средств, используемых для решения выделенных задач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сновная часть должна состоять из теоретической и практической частей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Здесь показывается умение кратко, ясно, логично, точно и аргументировано излагать материал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331488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9cb38"/>
                </a:solidFill>
                <a:latin typeface="Trebuchet MS"/>
              </a:rPr>
              <a:t>Заключение </a:t>
            </a: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16000" y="907920"/>
            <a:ext cx="712944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тоги по тем проблемным вопросам, которые были поставлены педагогом, когда он приступал к составлению методической разработк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900" spc="-1" strike="noStrike">
                <a:solidFill>
                  <a:srgbClr val="99cb38"/>
                </a:solidFill>
                <a:latin typeface="Trebuchet MS"/>
              </a:rPr>
              <a:t>Библиографический список</a:t>
            </a:r>
            <a:endParaRPr b="0" lang="en-US" sz="3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оставляет одну из существенных частей и отражает самостоятельную творческую работу автор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900" spc="-1" strike="noStrike">
                <a:solidFill>
                  <a:srgbClr val="99cb38"/>
                </a:solidFill>
                <a:latin typeface="Trebuchet MS"/>
              </a:rPr>
              <a:t>Приложение</a:t>
            </a:r>
            <a:endParaRPr b="0" lang="en-US" sz="3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это часть основного текста,  которая имеет дополнительное (обычно справочное) значение, но является необходимой для более полного освещения материал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63486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9cb38"/>
                </a:solidFill>
                <a:latin typeface="Trebuchet MS"/>
              </a:rPr>
              <a:t>Общие требования к оформлению методической разработки </a:t>
            </a:r>
            <a:endParaRPr b="0" lang="en-US" sz="32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3640" y="1844280"/>
            <a:ext cx="712764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Методические разработки предоставляются на бумажном носителе с приложением электронного вариант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опроводительный лист к работе должен содержать точную информацию об авторе: фамилия, имя, отчество (полностью); место работы (наименование образовательного учреждения с указанием территории); должность; квалификационная категория; сведения о наличии ученой степени, звания; контактные телефоны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6560" y="333000"/>
            <a:ext cx="68421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9cb38"/>
                </a:solidFill>
                <a:latin typeface="Trebuchet MS"/>
              </a:rPr>
              <a:t>Общие требования к</a:t>
            </a:r>
            <a:br>
              <a:rPr sz="3200"/>
            </a:br>
            <a:r>
              <a:rPr b="0" lang="ru-RU" sz="3200" spc="-1" strike="noStrike">
                <a:solidFill>
                  <a:srgbClr val="99cb38"/>
                </a:solidFill>
                <a:latin typeface="Trebuchet MS"/>
              </a:rPr>
              <a:t>оформлению методической разработки</a:t>
            </a:r>
            <a:endParaRPr b="0" lang="en-US" sz="32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50560" y="1989000"/>
            <a:ext cx="7273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Требования к тексту методической разработки: формат А4, ориентация – книжная, шрифт –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imes New Roman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, кегль – 14, интервал между строками одинарный, поля слева – 2,5 см, справа – 2 см, сверху и снизу – 2 см, выравнивание – по ширине страницы без переносов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Методическая разработка может иметь приложения, в том числе – в электронном вид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24000" y="2157480"/>
            <a:ext cx="7200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бъем приложений не лимитируется, но они должны соответствовать тексту (ссылки на них в тексте обязательны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сылки на использованную литературу в тексте следует давать в квадратных скобка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писок использованных источников должен содержать 10-15 названий. Если разработка носит только практический характер, не требующий теоретических ссылок, то список использованных источников можно опустить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оличество и объем разделов не лимитируетс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Рисунок 2" descr=""/>
          <p:cNvPicPr/>
          <p:nvPr/>
        </p:nvPicPr>
        <p:blipFill>
          <a:blip r:embed="rId1"/>
          <a:stretch/>
        </p:blipFill>
        <p:spPr>
          <a:xfrm>
            <a:off x="500040" y="157320"/>
            <a:ext cx="6846840" cy="194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475920"/>
            <a:ext cx="6348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9cb38"/>
                </a:solidFill>
                <a:latin typeface="Trebuchet MS"/>
              </a:rPr>
              <a:t>Используемая литература</a:t>
            </a: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23640" y="1270080"/>
            <a:ext cx="8280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ульневич С.В. Иванченко В.Н. Дополнительное образование методическая служба. Практическое пособие для руководителей ОУДОД, методистов, педагогов – организаторов, специалистов по дополнительному образованию, педагогов дополнительного образования; издательство «Учитель», 2005г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уйлова Л.Н., Кочнева С.В. Организация методической службы учреждений дополнительного образования детей; издательство «Гуманитарный издательский центр ВЛАДОС», 2001г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«Как стать автором педагогической разработки?» А. С. Сиденко, В. А. Чернушевич. ИПК и ПРНО, Москв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«Презентация профессионального мастерства как средство повышения квалификации учителя»: Под редакцией Гирба Е. Ю. Учебно-методическое пособие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ee7b08"/>
                </a:solidFill>
                <a:uFillTx/>
                <a:latin typeface="Trebuchet MS"/>
                <a:hlinkClick r:id="rId1"/>
              </a:rPr>
              <a:t>http://ru.wikipedia.org/wiki/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ee7b08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ru-RU" sz="2000" spc="-1" strike="noStrike" u="sng">
                <a:solidFill>
                  <a:srgbClr val="ee7b08"/>
                </a:solidFill>
                <a:uFillTx/>
                <a:latin typeface="Trebuchet MS"/>
                <a:hlinkClick r:id="rId3"/>
              </a:rPr>
              <a:t>sneg266.do.am/Metodika/metodicheskaja_razrabotka.pd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83920" y="188640"/>
            <a:ext cx="547380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9cb38"/>
                </a:solidFill>
                <a:latin typeface="Trebuchet MS"/>
              </a:rPr>
              <a:t>Методическая разработка</a:t>
            </a:r>
            <a:endParaRPr b="0" lang="en-US" sz="32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945720"/>
            <a:ext cx="66992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Материал для практического использования в учебном процессе: учебники, пособия для учителя и учащихся и т. д.</a:t>
            </a: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(Новый словарь методических терминов и понятий (теория и практика обучения языкам). Авторы Э. Г. Азимов, А. Н. Щукин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609480" y="2771640"/>
            <a:ext cx="6699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овокупность учебных и методических материалов, определяющих содержание, порядок и методы проведения занятий по теме или отдельным учебным вопросам. Разрабатывается в целях достижения единства методики проведения занятий с учетом категории обучаемых, уровня их подготовки, опыта руководителей (преподавателей), возможностей учебно-материальной базы. Обычно включает план проведения занятий с методическими указаниями и справочные материалы. (</a:t>
            </a: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Пограничный словарь. — М.: Академия Федеральной ПС РФ.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9880" y="404640"/>
            <a:ext cx="705636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99cb38"/>
                </a:solidFill>
                <a:latin typeface="Trebuchet MS"/>
              </a:rPr>
              <a:t>Основные виды методической продукции</a:t>
            </a:r>
            <a:endParaRPr b="0" lang="en-US" sz="28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991800"/>
            <a:ext cx="6348600" cy="56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уклет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Листовк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Аннотированный каталог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rebuchet MS"/>
              </a:rPr>
              <a:t>Информационно-методический справочник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rebuchet MS"/>
              </a:rPr>
              <a:t>Инструкц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rebuchet MS"/>
              </a:rPr>
              <a:t>Методическая записк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rebuchet MS"/>
              </a:rPr>
              <a:t>Методические рекомендац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rebuchet MS"/>
              </a:rPr>
              <a:t>Методическое пособ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rebuchet MS"/>
              </a:rPr>
              <a:t>Тематическая папк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rebuchet MS"/>
              </a:rPr>
              <a:t>Инструктивно-методический плакат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rebuchet MS"/>
              </a:rPr>
              <a:t>Тематическая подборка материал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rebuchet MS"/>
              </a:rPr>
              <a:t>Методическая разработка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63468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9cb38"/>
                </a:solidFill>
                <a:latin typeface="Trebuchet MS"/>
              </a:rPr>
              <a:t>Виды методических разработок</a:t>
            </a:r>
            <a:endParaRPr b="0" lang="en-US" sz="32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23640" y="1484280"/>
            <a:ext cx="727236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азработка конкретного уро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азработка серии уроко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азработка темы программ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азработка авторской методики преподавания предмет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азработка общей методики преподавания предмето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азработка новых форм, методов или средств обучения и воспита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азработки, связанные с изменением материально-технических условий преподавания предмет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91600" y="333000"/>
            <a:ext cx="698364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9cb38"/>
                </a:solidFill>
                <a:latin typeface="Trebuchet MS"/>
              </a:rPr>
              <a:t>Методические материалы должны быть рассмотрены и утверждены на педагогическом совете учреждения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87200" y="2708280"/>
            <a:ext cx="70884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едагог, разработавший методические материалы заявляет о готовности их представить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азначается педагогический совет, на котором разработки, представленные педагогами рассматриваются, обсуждаются и утверждаютс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55452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9cb38"/>
                </a:solidFill>
                <a:latin typeface="Trebuchet MS"/>
              </a:rPr>
              <a:t>Требования, предъявляемые к методической разработке</a:t>
            </a:r>
            <a:endParaRPr b="0" lang="en-US" sz="32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341000"/>
            <a:ext cx="720072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оответствие содержания теме и цел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олжна раскрывать вопрос «Как учить?»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Авторский характер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казание на эффективность методов и методических приемов, формах изложения учебного материала, применения современных технических и информационных средств обучения, обоснованные на своем педагогическом опыт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истематизация материала, простое и четкое изложени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94920" y="1341360"/>
            <a:ext cx="7201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Грамотность. Применяемая терминология соответствует педагогическому тезаурус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чет конкретных материально-технических условий осуществления учебно-воспитательного процесс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Методическая разработка должна ориентировать организацию учебного процесса в направлении применения активных форм и методов обуче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олжна содержать конкретные материалы, которые может использовать педагог в своей работ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250920" y="189000"/>
            <a:ext cx="65545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9cb38"/>
                </a:solidFill>
                <a:latin typeface="Trebuchet MS"/>
              </a:rPr>
              <a:t>Требования, предъявляемые к методической разрабо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2680" y="79848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9cb38"/>
                </a:solidFill>
                <a:latin typeface="Trebuchet MS"/>
              </a:rPr>
              <a:t>Структура методической разработки</a:t>
            </a:r>
            <a:endParaRPr b="0" lang="en-US" sz="32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1158480"/>
            <a:ext cx="634680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Аннотац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одержание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ведение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сновная часть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Заключение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писок использованных источнико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риложе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424240" y="131400"/>
            <a:ext cx="273816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9cb38"/>
                </a:solidFill>
                <a:latin typeface="Trebuchet MS"/>
              </a:rPr>
              <a:t>Аннотация </a:t>
            </a:r>
            <a:endParaRPr b="0" lang="en-US" sz="3600" spc="-1" strike="noStrike">
              <a:solidFill>
                <a:srgbClr val="99cb38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49120" y="731880"/>
            <a:ext cx="7491600" cy="17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 аннотации кратко указывается, какой проблеме посвящается методическая разработка, какие вопросы раскрывает, кому может быть полезн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9cb38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Прямоугольник 1"/>
          <p:cNvSpPr/>
          <p:nvPr/>
        </p:nvSpPr>
        <p:spPr>
          <a:xfrm>
            <a:off x="190440" y="2968560"/>
            <a:ext cx="75502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92d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Место и роль методической разработки в учебном процессе; ее особенности, для кого рассчит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cb38"/>
                </a:solidFill>
                <a:latin typeface="Trebuchet MS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2d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Актуальность данной работы, т. е. автор отвечает на вопрос, почему он выбрал эту тему и каково ее место в содержании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2d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2345760" y="2322360"/>
            <a:ext cx="29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cb38"/>
                </a:solidFill>
                <a:latin typeface="Trebuchet MS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03:43:35Z</dcterms:created>
  <dc:creator>Галина</dc:creator>
  <dc:description/>
  <dc:language>en-US</dc:language>
  <cp:lastModifiedBy>Admin</cp:lastModifiedBy>
  <dcterms:modified xsi:type="dcterms:W3CDTF">2015-02-17T19:34:02Z</dcterms:modified>
  <cp:revision>26</cp:revision>
  <dc:subject/>
  <dc:title>Методическая разработ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